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7FD-574F-4E28-A25D-8B7788E5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113-F3B0-4B44-A5A3-3B7FC29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DB9-22FD-4F48-9CB9-A98F1CAB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ED8-32BC-420B-BAF4-7F81CDAC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D26-22EB-437C-A235-A1E2146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4E0-F648-4896-8AAB-EAADA22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A17-176F-426A-B076-8704B6C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A01-E6E2-49DB-93AB-77A01F8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635-C3DA-4FF0-B6BB-2428F759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27E-9B91-442B-BFD2-A7BF6E9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964-61A7-4DA6-A84A-20BDCF8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F58-293F-4CAD-B5B4-FE3E3BD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EA53-45D2-43BF-9B82-B4F2EE556E3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585792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544920" cy="3387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67280" y="2781360"/>
            <a:ext cx="504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5470.6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9541.7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738360"/>
            <a:ext cx="6121440" cy="5497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2700360" y="3789000"/>
            <a:ext cx="792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6498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7628.2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2849.2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1908.4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9280" y="493560"/>
            <a:ext cx="5616360" cy="502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76720" y="2204640"/>
            <a:ext cx="792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7216560" cy="635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3102.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9919.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148360" y="4581360"/>
            <a:ext cx="792000" cy="136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4916160" cy="38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1589.1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5488.8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19640" y="3860640"/>
            <a:ext cx="792360" cy="136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2512.7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9631.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712800"/>
            <a:ext cx="5256360" cy="422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6720" y="3860640"/>
            <a:ext cx="792360" cy="136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7127640" cy="48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9440" y="712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nto de control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25885.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1231.0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580000" y="3644640"/>
            <a:ext cx="79236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6:55:29Z</dcterms:created>
  <dc:creator>Admin</dc:creator>
  <dc:description/>
  <dc:language>en-US</dc:language>
  <cp:lastModifiedBy>gil</cp:lastModifiedBy>
  <dcterms:modified xsi:type="dcterms:W3CDTF">2006-03-29T08:47:53Z</dcterms:modified>
  <cp:revision>9</cp:revision>
  <dc:subject/>
  <dc:title>Slide 1</dc:title>
</cp:coreProperties>
</file>